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02C-7650-44A1-BDAA-43DEA39E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C8A-AB4C-4CB5-9A0A-38F3BEA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C920C-3A5D-404D-AE92-DB62BE0F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B7C6-F5EF-44CA-86E2-D571E508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CA76F-CBE2-4AF1-A9C9-6149110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3163-20A8-4B0D-A3BC-B58572F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F2B6F-6CF3-4E41-95F5-ACBC1F5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7C73-966F-4005-A0F4-6C5524E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4EF83-E48B-40BC-8581-39E7AB29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B112-CBD2-4845-84E4-BE2FE52C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5617B-F038-447D-AC94-23EB6623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A19B7-61B8-484C-ACF1-33E05975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797-B015-47C8-9AC2-65C9588C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AF804-3F9F-412E-BFCC-A9BB5F8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5EB4-A279-4F81-9BAC-E2695604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F22C-6313-47DC-B07B-9BF62FC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64EA8-8E6E-45E5-93C4-CDB9A7A7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BBD4E-3480-4CD4-BA24-6CD714D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1F151-5F39-45FB-BFC1-EFD8A0F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FFFFD-1648-402C-83B1-22E4026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4D10-76A1-40A8-95C7-669935F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21844-6811-444E-9649-7D18772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9642-D354-4A56-A556-96F31BC6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5C5-6DC0-4F44-95C7-3B8FE06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7651-CA07-4D82-B0A5-31D90426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DCB5A-1C62-425C-BDC5-6BB5625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0FB77-4C0E-4BE4-BDCD-1D6A9D14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B4712-C017-4217-80B6-1236052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E440-B251-4E4A-8B46-028604A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6D698-13A7-4735-8373-C70A39E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C95CB-66F4-43D2-B934-9396F5D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A785-C94B-41C6-BE9C-D521544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BA600-DB6A-447E-AD49-C661AAC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31ED-3C3A-4758-87CA-550A49A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C528-E853-42FC-96F7-FD31D051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05F9-2A57-4638-A739-208FF25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FF076-8849-4804-B105-2976A0E7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961C-1668-4210-90A4-4C33C50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A6F46-0289-4ECF-BC57-467F1E0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6F2F-24C7-4B69-963B-DC450B8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E9A75-A196-4357-A25E-3B0D0FD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1F048-186F-429E-8337-22790F0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5815-0C14-435B-8DD4-F683E3C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10DAA-BD78-434E-BF21-255935EC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2CE0C-6D8D-4002-AA1F-DE3603A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3E60-84AD-4D45-800F-FF6D0BD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7D1E-22C9-4519-9B51-68317DC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AAB59-7E3E-47A1-A66D-565BFB0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5503F-E20A-4BB1-AD95-FBF28B0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C82D3-4C0B-4B6F-8326-7D62D12E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24A9E-C662-4850-AB37-CC45B57D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A85A8-042A-4450-898B-007533E1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2D832-591F-48E1-8F19-0F0AD85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FABDB-30B7-448D-88E9-BFB23F8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0D3D8-CEDC-40D8-86E2-4350C4B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8F6DE-558F-4A6F-84FD-90CC51E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B6CC-64B8-4DEF-8EFE-7C46C0FE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031E7-7D5C-4E14-A196-73F44403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2803D-89A1-4C17-9A5B-686DBE8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21173-0414-4D52-9D2C-6ECEFD3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E56EE-9A70-4EA0-B21E-403C0D0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89C25-535A-47FC-98CF-B0A5DDB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23875-A39E-4224-946A-B36B5778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D4626-04C1-49C9-9664-065615EC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BD32F-42C7-4275-B0E8-A2654D8C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7A125-A196-464E-BDE1-29726B4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FE2C-D11B-44F5-8C94-418FF85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A225-469A-401A-99F2-CFF0855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36952-35A1-4938-B1C0-199D420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5D298-F979-4352-B70F-E752A70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EE74A-64C5-4B19-A4EE-414285C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B7289-A976-4D16-944A-F622E9C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AA605-2133-4F0D-879B-EF8BFD7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07AD1-65FC-4960-B3D4-9B20F65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5A458-22EB-4BAC-AB9B-552E9C05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DB110-9915-4E97-A764-ACFF04A5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AA375-798B-45B9-9D7A-2DFB3BB7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4B9E0-042A-464D-8546-70BE25A8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1A31-A93F-4253-B40F-7E914D4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88619-E360-4B7A-8AA0-B0B1FA3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132EB-4CB5-4067-9F3A-F1B3DAB2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ECE65-8EC7-4D7F-A972-E0E7B95B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9046A-B659-4FB5-A42C-E316523B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50FB1-4E49-4811-9D7E-7A149B6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9DAE2-56B8-4CED-827B-F5FC988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5B32B-D55B-4223-9703-CBCC0344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2CA57-290E-4FAC-A376-EC671FE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69F98-1E51-4EE1-A3DE-41F4EB29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38AAB-D963-4375-B6AB-A247C3BC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EDF5-B016-49E1-8A53-4BFB0CB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CF2D0-9E83-4B30-97E3-D101953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ACB3F-7320-4FE9-998B-192A65E8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21AE7-B400-4E09-A39F-EC40410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825A2-F495-4A9B-9B1A-33E1779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E0A4A-B2F7-4238-B1F1-E3F65F9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F272C-EC82-4B95-BCE2-0A02E1F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F467C-1CBC-47E3-94D4-12BB0F9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424CB-719A-4615-AE11-70B6E00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11ACC-09F1-4DFD-A4F1-7770CAF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23F37-B8E0-4B6E-8E06-38154E1B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B252-DF32-4588-A96B-4A1B7B7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8DCB7-1F42-421F-9828-B8624579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2B4C5-304F-422D-ADBF-B729749B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FB0D7-DA51-4A2D-AFFD-1A51695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426A2-7BF9-497A-BA73-5567B393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62487-AB2B-4904-8812-60DCD073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B6E62-E79C-42DA-BD40-1F3433E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F497F-459D-40E4-BC51-E7727DE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066C6-ABB6-4A85-A1AB-81F3D10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264A7-B5F2-4F82-A751-FD51EF3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EE505-8570-4B46-8AAA-AFF8B89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38F-6F73-4A7F-B3F3-5EAECD6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E18-5AC7-468D-8C4B-60ECE12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26652-AE23-40BF-999F-F247E13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00E70-B8CC-40CD-A869-A3FCF94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889AE-3311-499F-AF16-434907E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93464-7A5A-41FD-B483-37CAC64E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E05D5-E443-4A6C-80F1-7FD8ACC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886E1-4828-46F2-977A-47ED6E58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0E5CB-0131-4C56-AC8F-8BE8E17A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BB206-6F95-4A37-BCAC-32B3745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98E16-1B22-4476-B042-02034B2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8481B-1AFC-4134-A020-A781AD2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FE6-A50A-4F61-90AE-2E7E107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FF96F-E027-4A06-B4BC-3CCCDB0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92A77-CAE8-450A-9001-EF98044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B6D32-9552-4DC4-94EE-26404E8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6DE1E-27F7-4F6F-9195-BC5E2688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62481-FB68-4A5D-BD2C-DB8AE19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4944D-87D3-4981-96C1-EDE3DA50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E08B1-8ACF-4F4C-AEC6-FEE47CE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EFA54-9F94-4102-B9A5-2F9E1464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77E27-DAA4-4694-BD39-036F5CD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0489C-6F20-4BE3-9077-EEDFBF2B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1D1-45AF-409B-9525-1013602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174F9-B08D-4EC8-863C-4F8C1374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54652-E189-4CAE-B079-6EC587C7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237EF-BFF9-462A-874C-47D9C3E9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D2B2E-6B19-4F42-A615-B876BF9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62A5C-C59A-4236-8293-D95DB57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E651A-D425-4180-AFC3-C343ED8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D14D6-1151-417F-BD5C-1C0E34B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168EC-9B07-49B2-AC69-FFEBD730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B2790-C089-4948-92A7-C7EDC52A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58074-730C-43CB-A417-7D8E1B62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8963-4343-4CB8-898D-D67DA254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131C8-7E33-4957-AC2A-054E27D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B74E4-8AE3-4FB2-8A94-BD7F412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85EC9-B1BD-45CC-A548-2A010BA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AF151-1B34-49EC-BECF-8A80A1B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9658C-D059-4AA1-9287-355D5D9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24A65-8A6D-487F-B015-7CC6000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7483D-EA6A-4A26-9D8E-60C944A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8DE26-46FC-4147-855C-B3354C5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BB917-9E51-4B29-9BC7-22575E1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E949B-60CD-4BF8-AF1C-C52CC49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AE6D-8D54-4A1B-9713-D6EA56D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1629F-4DB1-497B-82EE-65D757FE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B06F2-750D-482B-8D96-F9EAC876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A55EF-E54C-4137-87A1-1E9D4F5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A01C7-A698-4CDB-9136-5997BA9D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4F626-66AC-4CE8-A000-8A96C5AF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634CDB-B07D-4E6B-BA36-3F2BB05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EFA85-75EE-4765-8E2E-9724E20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CE231-CCCA-4D90-9BA5-486B5CB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CD208-87DF-488D-89DD-DD1150B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84B64-6366-45B5-A970-FCF3579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C8D6-AA65-4E25-93E9-31DEBF87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A9966-95B2-4D2E-A45A-4A8E83CF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8E7CF-2048-45C8-859A-61E77805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562EF-479D-4A04-BECF-F7791629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BB2F-5217-423A-827C-C10C07C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9D73-6F09-47DC-9A7C-C6A0F3F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3973-4EFF-4667-91A1-1E87636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5E97-7983-42AE-B532-6B410A4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8A8-2C9C-4FE8-9A2D-B874E66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CE97-F868-4B20-AE6E-2BA5041A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08F3-8B47-4458-B8C0-8324DF7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CDC9-1CCB-4C1C-9D70-71945FE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8468-C36E-4661-801F-E617CAE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0805-B21E-4CAC-B20A-16FD49A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DEF8-11E6-4D80-B59C-989D0198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E2EF-488B-4C17-B59F-C1F7DF7E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A093-5004-462C-93C8-BD2E8870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1F5A-5ECB-4BF1-AC76-B3BAB02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4139-9A9A-4B4E-8D22-38C1FCC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ECC-09F1-482A-ADD2-C0F26795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02E3-530A-4C7F-B77B-79487288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DBE2-2CED-4754-8C83-A6E3196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5CFB-CB86-4F8C-994E-5159F2C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9535-DC0C-44B5-A0CE-AF3C993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D839-1EC8-404E-9C6F-4E3725B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1F01-24DC-459C-901E-DB03C59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678A-1BB7-46BB-AD88-AE0E1B2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2852-BAB0-40A7-BC48-ACAD2430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6939-A72F-41EC-B9E8-C65BA62B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5DD3-128E-4C67-ADF3-F156DA91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595-DA37-4AE8-8585-8E90E1E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CFC0-252E-4C2D-A166-93EFA24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FAAB-2F6D-4B37-AD73-4CBC9CB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5BF0-7382-440A-8CDC-6B207DFD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264D-88C2-4F55-BC50-400C8C4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A678-0EC4-4F2E-92CC-DFF9F5A5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D29F-2BA3-44AA-AA61-7DEC101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31EF-3E65-4213-9F21-899F4BB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E092-FF71-424C-A366-327C2B9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A9F6-F2F3-4310-A069-B65804CE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0EE4-894A-47F9-9797-09BEE9A4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01E-A6B1-4881-9225-441245D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F983-B488-4ECB-9A72-3203DDDE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7348-B491-436D-9AFD-A2A10745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62262-4280-4611-8678-56E4155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1385-BCF2-45E6-832C-3069852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2CBE-94C5-4803-9A72-14E4737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9DF9-E35D-43D2-84E7-2121000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C42C-E6A1-4E19-AEFA-C9B5909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A7F5-C3BE-4B8B-96D3-BBF970F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D413-7A7B-4CE3-9B2F-A5BDFD7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F0F5-7CC2-42AF-B403-663C9074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26C-FEF2-4DC8-8FDB-DFA4674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07EE-435F-458B-BE72-CE542F9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B3B9-E51D-4A65-8A12-05543E23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06C3-B289-4EDF-8604-506BB13F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CFBB-A156-462A-A1C2-2E799D5E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0FE4-F4D3-4C39-BB24-0A75E06E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D785-B373-4A12-B60B-81AB027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86A3-30DF-4DAE-BB65-7B047A0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E0C6-5FB1-49FE-B3BD-1C9985B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0913-FAE9-4675-89BB-5AD85C1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A8C18-826F-4F2A-B66F-11BE205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DCB-9272-4AD0-B944-7BD18F1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5DE5F-1194-4743-84B1-0EACB16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3C10-D75B-4B47-B2A6-108E064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2F0F-C9AF-4F78-AD82-2B78170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4F26-81D2-4D9B-A15B-587821F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F122F-69EE-4994-A3CA-819AA30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BDE53-0895-4A8B-91FF-4CE774D9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89EF-DC1E-43CA-BA8B-E067095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61B53-89D3-4881-9A2A-CFAD70E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47D3-BBCA-4678-9D94-1E1CE0C1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150E-6921-4535-87CF-C3694DD4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7C7-6AD6-4ED1-B4E6-D9A8EAD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99BD8-C55C-4AD8-A3E3-AEA0C864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117D-F124-4619-829E-246C2C1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057F-EE43-434E-A0B7-B0357E7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D010-C37F-4D64-BDEB-0245CF8E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F66DB-67E7-4E8A-B691-50B93D54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4663C-84DF-492A-A023-052B4004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16E2-812D-4870-B1B0-05DA5096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C82E7-4A24-4768-BDAA-E506365D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27481-222B-456C-8D57-6D5191B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3C348-EC98-4CC5-8DDC-96EAF591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195-832A-44B1-914E-FFA1562CB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476-2706-478E-9BE8-2BED53CB7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267-C8F1-4CBB-AE3E-811824423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DAF-69E1-461B-AFCF-77026AA35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B8A0-00AE-465B-BAC9-FACECE92E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21F-BB46-4CA0-BC1D-20BB65487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C444-5B0D-4B68-99C4-14599A211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84B-0DBD-45A9-9999-59557DA8E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5116-ACEF-4356-AAD2-E5C88D71F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E03-301A-415E-9AD6-8D4B9E4EB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EAF-B7F3-4B74-8820-09FDAD57F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9FE-B6A6-43C9-A870-4087672DE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F6C7-A76E-4A5D-B179-2B94020B2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688-AD90-46C5-9820-08F8AE312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9E0-9C39-4436-9830-86571F7CE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A483-2102-4B35-9E17-623F9F91A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924-E292-4FF4-9CB2-83DABC6B8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1F9-0EB2-413F-9A2C-74FCA40A5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991-AE0F-4BF9-B4CF-64137A72C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2CA-1284-44EB-AD9C-5BFD1B6D3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768-4721-458E-BBC5-FB521DF8B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294-7EC8-44A2-AAF8-E0B4F3BCC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565-2D04-49EC-A954-3DFF9DE56D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168-71CB-4F5C-A12E-9283017DD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F67-C10D-4586-96AD-1FBFA347F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FAA5-33F9-4B8E-8513-D90CAEAFC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ABE-5BDE-43A6-9D5E-45F9FBF36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972-021A-4DD9-AB30-F15B7644C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6041-AE2E-4F9C-8DE1-F96DF892A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01B-B4F7-435F-BD0F-0FD736415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586-9480-45C2-B7F6-5E950D8002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807E-6FE8-4902-90B3-4170E97AEC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B11-9FB2-43E9-B8D0-2FEDF1DBF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AF7C-FA73-4E04-BD54-84F38F55D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7E14-5C9A-4770-A29C-406A5877AB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0C6C-82BB-43FC-A329-5A2D9A573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A5B-D586-4796-BD3D-2841F03F0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DAC-252E-4EED-8838-1EFE6ECD6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306-E557-45D0-BFB8-B63DB9A4E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61C8-09F4-414A-87FA-493A42A98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47840" y="3219480"/>
            <a:ext cx="46483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523800"/>
            <a:ext cx="8839440" cy="5810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80000" y="15415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194472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9076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835280" y="270828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72000" y="270828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885080" y="27082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547640" y="3770280"/>
            <a:ext cx="235080" cy="208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328920" y="3770280"/>
            <a:ext cx="235080" cy="208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829480" y="3770280"/>
            <a:ext cx="234720" cy="2080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975440" y="3763800"/>
            <a:ext cx="235080" cy="208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258920" y="602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564000" y="602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5580000" y="602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443640" y="602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7667640" y="6021360"/>
            <a:ext cx="1225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223920" y="390600"/>
            <a:ext cx="869616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0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